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1AA-CC85-429B-B7B1-6CB82737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01A-D6E4-4036-A000-EC09ABC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022-53B3-4432-BD0C-18B4C712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485-1FE4-4971-8E50-6E3E05F1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D22-6366-4A0F-BFDD-010F7DF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0C7-99CF-4629-BAD1-8D7F392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BE2-213E-486A-9268-506E74E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359-A503-4279-B518-9A22860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DA2-14FD-4753-9CC7-4086FB1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796-3014-4C2B-BF6D-56967D8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43C-B8D2-4F02-A0E1-54C6CC8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D6D-88FD-4A8A-888E-8D16B8B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18EC-3466-453D-8554-CF357966D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mww.org/images_CDMWW/flag_Cameroon.gif&amp;imgrefurl=http://cdmww.org/Fact_cameroon.htm&amp;h=304&amp;w=455&amp;sz=3&amp;hl=en&amp;start=10&amp;usg=__ayIT1zQJa-tUMIKe1y0s-RtI46E=&amp;tbnid=WNtSzGJgFj1_SM:&amp;tbnh=86&amp;tbnw=128&amp;prev=/images%3Fq%3Dcamero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amero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: Zachar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05120"/>
            <a:ext cx="6782040" cy="455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6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Cameroon is bordered by Nigeria to the west; Chad to the northeast; The central African republic to the east; and equatorial Guiana, Gabon, and the rebublic of Congo to the sou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8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86800" y="-5456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oon is well known for its native styles of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other African countries, Cameroon enjoys political and social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lies firmly in the hands of the president, Paul Bi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2852_Biya-Paul.jpg"/>
          <p:cNvPicPr/>
          <p:nvPr/>
        </p:nvPicPr>
        <p:blipFill>
          <a:blip r:embed="rId2"/>
          <a:stretch/>
        </p:blipFill>
        <p:spPr>
          <a:xfrm>
            <a:off x="4648320" y="5181480"/>
            <a:ext cx="1038240" cy="152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ameroon music crop.jpg"/>
          <p:cNvPicPr/>
          <p:nvPr/>
        </p:nvPicPr>
        <p:blipFill>
          <a:blip r:embed="rId3"/>
          <a:stretch/>
        </p:blipFill>
        <p:spPr>
          <a:xfrm>
            <a:off x="7629480" y="1371600"/>
            <a:ext cx="15145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ameroon3.jpg"/>
          <p:cNvPicPr/>
          <p:nvPr/>
        </p:nvPicPr>
        <p:blipFill>
          <a:blip r:embed="rId4"/>
          <a:stretch/>
        </p:blipFill>
        <p:spPr>
          <a:xfrm>
            <a:off x="7620120" y="3809880"/>
            <a:ext cx="1523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0694600">
            <a:off x="2743200" y="380880"/>
            <a:ext cx="386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Lucida Sans Typewriter"/>
              </a:rPr>
              <a:t>Cameroon Fact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Lucida Sans Typewriter"/>
              <a:ea typeface="Lucida Sans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On Jul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, 1884 Cameroon became a German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In world war 1 the british invaded cameroon from nigeria in 19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French cameroons achieved independence as the republic of cameroon in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-304920"/>
            <a:ext cx="5334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Rage Italic"/>
              </a:rPr>
              <a:t>Cameroon History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Rage Italic"/>
              <a:ea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5:30:29Z</dcterms:created>
  <dc:creator>LCS_user</dc:creator>
  <dc:description/>
  <dc:language>en-US</dc:language>
  <cp:lastModifiedBy>zacharyplace</cp:lastModifiedBy>
  <dcterms:modified xsi:type="dcterms:W3CDTF">2008-11-07T14:19:40Z</dcterms:modified>
  <cp:revision>5</cp:revision>
  <dc:subject/>
  <dc:title>Cameroon</dc:title>
</cp:coreProperties>
</file>